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79F4-5E27-4A1A-AC49-78ECD9496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CA22-5B05-4033-95BD-2494F0D9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655A-5C5B-428B-B857-462D0050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40E-A325-4064-90F0-EC9F0638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1EF8-A0F9-42BA-9747-9F00B210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0ECC-9F57-40ED-A629-06F88088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59F5-0E57-464D-BF2C-32866561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A60B-B849-4BF6-9B8A-51679EC3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B92E-A926-4523-8B70-6B3B92D6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1377-6549-41AC-AA60-09ECED0E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B0E3-1E61-4301-845D-7B78644D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233E-0E93-4266-8855-D18709B3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670B-BFEC-4A60-A99D-362115380F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55020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6600"/>
                </a:solidFill>
                <a:latin typeface="Monotype Corsiva"/>
              </a:rPr>
              <a:t>Декорирование в технике </a:t>
            </a:r>
            <a:r>
              <a:rPr b="1" i="1" lang="ru-RU" sz="115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Image1738"/>
          <p:cNvPicPr/>
          <p:nvPr/>
        </p:nvPicPr>
        <p:blipFill>
          <a:blip r:embed="rId1"/>
          <a:stretch/>
        </p:blipFill>
        <p:spPr>
          <a:xfrm>
            <a:off x="468360" y="2421000"/>
            <a:ext cx="230328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6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2670120" cy="26686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rcRect l="4529" t="3971" r="3363" b="3971"/>
          <a:stretch/>
        </p:blipFill>
        <p:spPr>
          <a:xfrm>
            <a:off x="3132000" y="3933720"/>
            <a:ext cx="2703600" cy="2668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3"/>
          <a:stretch/>
        </p:blipFill>
        <p:spPr>
          <a:xfrm>
            <a:off x="6084720" y="3914640"/>
            <a:ext cx="280836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66247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cou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от французског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еза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оответственно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а декупаж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техника украшения, декорирования с помощью вырезанных бумажных мотив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324000" y="4564080"/>
            <a:ext cx="2952720" cy="1960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rcRect l="7816" t="5463" r="6070" b="6063"/>
          <a:stretch/>
        </p:blipFill>
        <p:spPr>
          <a:xfrm>
            <a:off x="6588000" y="260280"/>
            <a:ext cx="17290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4195696_dek_2 (600x450, 209Kb)"/>
          <p:cNvPicPr/>
          <p:nvPr/>
        </p:nvPicPr>
        <p:blipFill>
          <a:blip r:embed="rId1"/>
          <a:stretch/>
        </p:blipFill>
        <p:spPr>
          <a:xfrm>
            <a:off x="6203880" y="4653000"/>
            <a:ext cx="2940120" cy="220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user\Downloads\97595143_large_a.jpg"/>
          <p:cNvPicPr/>
          <p:nvPr/>
        </p:nvPicPr>
        <p:blipFill>
          <a:blip r:embed="rId2"/>
          <a:stretch/>
        </p:blipFill>
        <p:spPr>
          <a:xfrm>
            <a:off x="324000" y="189000"/>
            <a:ext cx="3647880" cy="273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user\Downloads\33224296c52b405ee662fba35bd64c7b_thumb_23ad431827e0504d.jpeg"/>
          <p:cNvPicPr/>
          <p:nvPr/>
        </p:nvPicPr>
        <p:blipFill>
          <a:blip r:embed="rId3"/>
          <a:stretch/>
        </p:blipFill>
        <p:spPr>
          <a:xfrm>
            <a:off x="4643280" y="333360"/>
            <a:ext cx="3552840" cy="266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user\Downloads\laolkimatte_150.jpg"/>
          <p:cNvPicPr/>
          <p:nvPr/>
        </p:nvPicPr>
        <p:blipFill>
          <a:blip r:embed="rId4"/>
          <a:stretch/>
        </p:blipFill>
        <p:spPr>
          <a:xfrm>
            <a:off x="755640" y="3141720"/>
            <a:ext cx="2160720" cy="33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user\Downloads\327.300x300.jpg"/>
          <p:cNvPicPr/>
          <p:nvPr/>
        </p:nvPicPr>
        <p:blipFill>
          <a:blip r:embed="rId5"/>
          <a:stretch/>
        </p:blipFill>
        <p:spPr>
          <a:xfrm>
            <a:off x="3276720" y="3500280"/>
            <a:ext cx="24796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6600"/>
                </a:solidFill>
                <a:latin typeface="Monotype Corsiva"/>
              </a:rPr>
              <a:t>Последовательность выполнения техники декупаж с бумажными салфетками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рать салфетку с сюжетной карти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нести тонким слоем клей на поверхность  кан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нь осторожно отделить два слоя салфетки, оставив декоративный с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ить на канву сюжетную картинку и очень осторожно  с помощью сухой кисти ее разгладить от середины к кра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оверхность сюжетной картинки с помощью кисти нанести л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" descr=""/>
          <p:cNvPicPr/>
          <p:nvPr/>
        </p:nvPicPr>
        <p:blipFill>
          <a:blip r:embed="rId1"/>
          <a:stretch/>
        </p:blipFill>
        <p:spPr>
          <a:xfrm>
            <a:off x="6443640" y="4869000"/>
            <a:ext cx="1816200" cy="1815840"/>
          </a:xfrm>
          <a:prstGeom prst="rect">
            <a:avLst/>
          </a:prstGeom>
          <a:ln w="0">
            <a:noFill/>
          </a:ln>
        </p:spPr>
      </p:pic>
      <p:pic>
        <p:nvPicPr>
          <p:cNvPr id="58" name="04 Andantino C con variazioni K App.mp3" descr=""/>
          <p:cNvPicPr/>
          <p:nvPr/>
        </p:nvPicPr>
        <p:blipFill>
          <a:blip r:embed="rId2"/>
          <a:stretch/>
        </p:blipFill>
        <p:spPr>
          <a:xfrm>
            <a:off x="684360" y="5776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8109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7:33:05Z</dcterms:created>
  <dc:creator>User007</dc:creator>
  <dc:description/>
  <dc:language>en-US</dc:language>
  <cp:lastModifiedBy>Учитель</cp:lastModifiedBy>
  <dcterms:modified xsi:type="dcterms:W3CDTF">2014-02-10T03:24:24Z</dcterms:modified>
  <cp:revision>32</cp:revision>
  <dc:subject/>
  <dc:title>Декорирование в технике декупаж</dc:title>
</cp:coreProperties>
</file>